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414-6239-46CC-B89B-03388F8C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E02-19F7-4DB9-99CF-B095BBC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CFA-8D62-4928-BCCE-ADDB393B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652-B11F-4860-88D2-CE14816E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EBA1-6E98-4D7E-9A6A-52890379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1E6-E82C-42D2-BE06-40ABC97C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DBF-8746-4D8A-955D-2B3495D7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92A-DAFC-449D-AD9A-E6CA074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AC45-46A6-4542-9AC9-367ED07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6C50-B082-4CCE-9175-D09F40E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4E0-42BD-4E38-BB49-0B13B98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E45-342A-4110-94CA-B10C3C58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2FF4-8CB0-4ED2-AF0A-9637CC8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F9C6-A8C0-4477-9EB8-3E7AEAF9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00C-9704-4DBF-B644-80FAA94C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8875-5B34-4D38-92A1-0505A7D5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270A-0629-48C5-A86A-0BD2B5FA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CA8-51DC-4C3E-B19B-92CDD3C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1A2-2CA8-43BF-ACFD-6F86172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FDE-650A-4F1E-B1BD-FC02F09B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F25-B24E-4990-92DB-CC5D2256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520-3D5C-4A51-95B6-36D087E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BD5-8F94-4A3E-96A3-5552243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5E0-DD29-49A4-90CB-90BFEB6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f6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f6a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B0DF-FB3C-4ED2-855B-B7D28961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f6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86882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2520" y="1323720"/>
            <a:ext cx="864252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f6a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f6a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DE6C-9C16-438A-BF3E-6DB20B074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4920" y="62485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6a95"/>
                </a:solidFill>
                <a:latin typeface="Arial"/>
              </a:rPr>
              <a:t>Partnership for Clean Indoor Air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98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f6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ments of improved stoves distributed by AHDE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34760" y="3886200"/>
            <a:ext cx="764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Presentation by Tami Bond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15 July 2006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oncentrations are too hi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United States Environmental Protection Agency (EPA) has set standards for </a:t>
            </a:r>
            <a:r>
              <a:rPr b="0" lang="en-US" sz="2800" spc="-1" strike="noStrike" u="sng">
                <a:solidFill>
                  <a:srgbClr val="3f6a95"/>
                </a:solidFill>
                <a:uFillTx/>
                <a:latin typeface="Arial"/>
              </a:rPr>
              <a:t>outdoor 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ir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ny concentration that is greater is too high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lthough the comparison is not perfect, we will compare with these standards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5640" y="5992920"/>
            <a:ext cx="36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* 8-hour average    ** 24-hour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21920" y="2144880"/>
            <a:ext cx="50238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monoxide (CO): 9 ppm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ulate matter (PM): 65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/m3 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n monoxide in ho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276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If homes don’t have chimneys, concentrations can be too high.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centrations are generally acceptable for improved stoves with and without chimneys.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However, even the highest concentrations are lower than those on Tegucigalpa roadways!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5334120" cy="387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3733920"/>
            <a:ext cx="46479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8120" y="3718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EPA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92200" y="5075280"/>
            <a:ext cx="34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easurements made during co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ulate matter in ho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047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For stoves without chimneys, concentrations are many times higher than the standard!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This is true even for improved stoves.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Stoves with chimneys help maintain acceptable air quality.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Particulate matter is a bigger problem than carbon monoxide. The concentrations are much higher than the standard.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334120" cy="388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2520" y="4514760"/>
            <a:ext cx="46479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4160" y="36352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EPA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03560" y="4044960"/>
            <a:ext cx="0" cy="477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92200" y="5075280"/>
            <a:ext cx="34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easurements made during co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easuring emi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806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University of Illinois built a portable cart to make emission measurement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Right now, the measurement has to be done by researcher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We hope to make it </a:t>
            </a: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easier so that everyone can do it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1289160"/>
            <a:ext cx="4267080" cy="319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72280" y="4440240"/>
            <a:ext cx="300816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Chris and Benjamin use the emission cart to measure the stove inside the kit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issions of carbon monoxide (C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213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mproved stoves emit about as much CO per wood as traditional stove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f they use less wood, they will emit less CO for cooking a meal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08480" y="1084320"/>
            <a:ext cx="5479920" cy="398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00240" y="6135840"/>
            <a:ext cx="6742080" cy="3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Remember: Wood used x pollutant per wood = total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102400" y="3048120"/>
            <a:ext cx="28994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s of CO per kilogram of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issions of particulate matter (PM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3325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toves with chimneys reduce emissions of PM per kilogram of wood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re could be an additional benefit if they use less wood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s is beneficial for the environment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60840" y="1160640"/>
            <a:ext cx="5297400" cy="38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92200" y="5075280"/>
            <a:ext cx="38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Ecolenca tests were mostly new us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so emissions may not be represent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311920" y="3046680"/>
            <a:ext cx="28994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s of PM per kilogram of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tial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n homes with traditional stoves: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centrations of carbon monoxide can be too high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centrations of particulate matter are almost always too high– sometimes by 10 times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himney stoves have lower emissions </a:t>
            </a: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improve indoor air quality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The chimney promotes a stronger draft.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toves without chimneys may be successful with user training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University of Illinois also did measurements in 2006. These will be added after we examine the data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HDESA will do many more tests to measure 24-hour concentrations. These will also be added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3f6a95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) is also an important pollutan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tributes to global warming, not dangerous to people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Using less fuel is the easiest way to reduce emissions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easurement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AHDESA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Benjamin Osorto Pinel, organizer, stove installer and monitoring exper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ugusto Ramirez, organizer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University of Illinois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ami Bond and Christoph Roden, emission measurements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Questions: Tami – yark@uiuc.edu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6880" y="565308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ank you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HDESA is distributing stoves that may use less wood and produce fewer emission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Our measurements examine whether improved stoves really are better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7324" b="0"/>
          <a:stretch/>
        </p:blipFill>
        <p:spPr>
          <a:xfrm>
            <a:off x="4773600" y="2989440"/>
            <a:ext cx="3789360" cy="306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14649"/>
          <a:stretch/>
        </p:blipFill>
        <p:spPr>
          <a:xfrm>
            <a:off x="762120" y="3132000"/>
            <a:ext cx="3109680" cy="3538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34080" y="5869080"/>
            <a:ext cx="1941480" cy="43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Augusto is installing a new chimn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442200"/>
            <a:ext cx="2646360" cy="2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This lady has a new Ecofo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pollutant: Carbon monox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arbon monoxide (CO)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olorless, odorless gas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You can’t see it or smell it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auses dizziness and death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oncentration measured in parts per million (ppm)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1 ppm is 1 molecule of CO in each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million molecules of air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97680" y="4575240"/>
            <a:ext cx="1017720" cy="190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4343400"/>
            <a:ext cx="2381400" cy="971640"/>
          </a:xfrm>
          <a:prstGeom prst="wedgeEllipseCallout">
            <a:avLst>
              <a:gd name="adj1" fmla="val 59731"/>
              <a:gd name="adj2" fmla="val 33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is the 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pollutant: Particulate mat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Particulate matter (PM) makes</a:t>
            </a: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visible smoke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particles are very small!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Diameters about 0.1 </a:t>
            </a:r>
            <a:r>
              <a:rPr b="0" lang="en-US" sz="2400" spc="-1" strike="noStrike">
                <a:solidFill>
                  <a:srgbClr val="3f6a95"/>
                </a:solidFill>
                <a:latin typeface="SymbolPS"/>
                <a:ea typeface="SymbolPS"/>
              </a:rPr>
              <a:t>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m (100 times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smaller than diameter of a human hair)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These particles cause illness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because they get deep into the lungs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oncentration is measured </a:t>
            </a: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3f6a95"/>
                </a:solidFill>
                <a:latin typeface="SymbolPS"/>
                <a:ea typeface="SymbolPS"/>
              </a:rPr>
              <a:t>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g/m</a:t>
            </a:r>
            <a:r>
              <a:rPr b="0" lang="en-US" sz="2800" spc="-1" strike="noStrike" baseline="30000">
                <a:solidFill>
                  <a:srgbClr val="3f6a95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3f6a95"/>
                </a:solidFill>
                <a:latin typeface="SymbolPS"/>
                <a:ea typeface="SymbolPS"/>
              </a:rPr>
              <a:t>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g/m</a:t>
            </a:r>
            <a:r>
              <a:rPr b="0" lang="en-US" sz="2400" spc="-1" strike="noStrike" baseline="30000">
                <a:solidFill>
                  <a:srgbClr val="3f6a95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 is one microgram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of particles in each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ubic meter of air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013" t="16823" r="0" b="16823"/>
          <a:stretch/>
        </p:blipFill>
        <p:spPr>
          <a:xfrm>
            <a:off x="7140600" y="1150920"/>
            <a:ext cx="1371600" cy="1803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0760" y="2744640"/>
            <a:ext cx="1941480" cy="7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Black particles look like this if you use a very strong microsco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87920" y="4060800"/>
            <a:ext cx="3305160" cy="247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43640" y="6459480"/>
            <a:ext cx="3313080" cy="2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If you can see it, it’s particulate mat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iss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differ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4200" y="3616200"/>
            <a:ext cx="3324240" cy="2522160"/>
            <a:chOff x="214200" y="3616200"/>
            <a:chExt cx="3324240" cy="2522160"/>
          </a:xfrm>
        </p:grpSpPr>
        <p:sp>
          <p:nvSpPr>
            <p:cNvPr id="106" name=""/>
            <p:cNvSpPr/>
            <p:nvPr/>
          </p:nvSpPr>
          <p:spPr>
            <a:xfrm>
              <a:off x="518400" y="4354200"/>
              <a:ext cx="2717640" cy="1784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4200" y="3616200"/>
              <a:ext cx="1570320" cy="8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786320" y="3616200"/>
              <a:ext cx="16304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1605600" y="5092560"/>
            <a:ext cx="368280" cy="98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>
                      <a:alphaModFix amt="50000"/>
                    </a:blip>
                    <a:stretch/>
                  </p:blipFill>
                  <p:spPr>
                    <a:xfrm>
                      <a:off x="1605600" y="5092560"/>
                      <a:ext cx="36828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2692800" y="4590360"/>
              <a:ext cx="845640" cy="440640"/>
            </a:xfrm>
            <a:custGeom>
              <a:avLst/>
              <a:gdLst/>
              <a:ahLst/>
              <a:rect l="l" t="t" r="r" b="b"/>
              <a:pathLst>
                <a:path w="672" h="344">
                  <a:moveTo>
                    <a:pt x="0" y="296"/>
                  </a:moveTo>
                  <a:cubicBezTo>
                    <a:pt x="44" y="200"/>
                    <a:pt x="88" y="104"/>
                    <a:pt x="144" y="56"/>
                  </a:cubicBezTo>
                  <a:cubicBezTo>
                    <a:pt x="200" y="8"/>
                    <a:pt x="264" y="8"/>
                    <a:pt x="336" y="8"/>
                  </a:cubicBezTo>
                  <a:cubicBezTo>
                    <a:pt x="408" y="8"/>
                    <a:pt x="520" y="0"/>
                    <a:pt x="576" y="56"/>
                  </a:cubicBezTo>
                  <a:cubicBezTo>
                    <a:pt x="632" y="112"/>
                    <a:pt x="652" y="228"/>
                    <a:pt x="672" y="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7240" y="1419120"/>
            <a:ext cx="283680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oo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per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9920" y="4197240"/>
            <a:ext cx="325728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entration in the room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oom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82720" y="1135080"/>
            <a:ext cx="2837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4 kg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5 g PM/kg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20 g PM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40600" y="793800"/>
            <a:ext cx="1792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many ways to reduce air concent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840" y="1563840"/>
            <a:ext cx="283680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oo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per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920" y="3741840"/>
            <a:ext cx="325764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entration in the room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oom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43120" y="1741320"/>
            <a:ext cx="1928880" cy="13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267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f6a95"/>
                </a:solidFill>
                <a:uFillTx/>
                <a:latin typeface="Arial"/>
              </a:rPr>
              <a:t>Solutions: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6a95"/>
                </a:solidFill>
                <a:latin typeface="Arial"/>
              </a:rPr>
              <a:t>Use less wood 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Better efficiency by improving stove design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6a95"/>
                </a:solidFill>
                <a:latin typeface="Arial"/>
              </a:rPr>
              <a:t>Reduce emissions (less pollution from each kilogram of wood)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Improve burning with better stove design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Use fuel that burns better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6a95"/>
                </a:solidFill>
                <a:latin typeface="Arial"/>
              </a:rPr>
              <a:t>Remove pollutants from room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Use a chimney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Increase ventilation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1200" y="2459160"/>
            <a:ext cx="145080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102120" y="4950000"/>
            <a:ext cx="1469880" cy="28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2468520"/>
            <a:ext cx="258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30240" y="1881360"/>
            <a:ext cx="175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560" y="5218200"/>
            <a:ext cx="249732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concentration and emission are importa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amount of </a:t>
            </a: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concentration 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ffects people’s health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A stove with high emissions may not cause health problems if people do not breathe the smoke.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amount of </a:t>
            </a: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emission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affects the environment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When a neighborhood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has many stoves, high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emissions result in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poor air quality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Stove emissions stay in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the atmosphere and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hange its chemistry.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9765" r="0" b="0"/>
          <a:stretch/>
        </p:blipFill>
        <p:spPr>
          <a:xfrm>
            <a:off x="4572000" y="3438360"/>
            <a:ext cx="4105440" cy="277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6078600"/>
            <a:ext cx="36748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Homes are very close together in Nueva Suyapa. Stoves need to have low emissions even if they have chimne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4649" t="19531" r="14649" b="0"/>
          <a:stretch/>
        </p:blipFill>
        <p:spPr>
          <a:xfrm>
            <a:off x="662040" y="3998880"/>
            <a:ext cx="2641680" cy="2255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easured 4 kinds of stov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78160" y="1066680"/>
            <a:ext cx="3324240" cy="249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00760" y="1106640"/>
            <a:ext cx="1560600" cy="5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Justa 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(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2280" y="900000"/>
            <a:ext cx="3400560" cy="2551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200" y="3316320"/>
            <a:ext cx="3103560" cy="3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Traditional (no 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39000"/>
            <a:ext cx="4227480" cy="5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We also measured the Ecobarril, a chimney stove that was discontinu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160" y="6116760"/>
            <a:ext cx="3867120" cy="3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coRocket/Ecolenca (no 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rcRect l="7324" t="0" r="14649" b="0"/>
          <a:stretch/>
        </p:blipFill>
        <p:spPr>
          <a:xfrm>
            <a:off x="4780080" y="3624120"/>
            <a:ext cx="2206440" cy="212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86680" y="3792600"/>
            <a:ext cx="1522080" cy="75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cofogon/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cohorno 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(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Measuring concent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14649" b="19531"/>
          <a:stretch/>
        </p:blipFill>
        <p:spPr>
          <a:xfrm>
            <a:off x="4572000" y="1504800"/>
            <a:ext cx="4268880" cy="30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971960" y="4402080"/>
            <a:ext cx="3008520" cy="43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The concentration monitoring package is installed in a kit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067360"/>
            <a:ext cx="85341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ndoor air concentrations are measured with equipment that can be left in the home over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s can be done by AHDESA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7324" t="19531" r="54932" b="39066"/>
          <a:stretch/>
        </p:blipFill>
        <p:spPr>
          <a:xfrm>
            <a:off x="520560" y="1604880"/>
            <a:ext cx="3575160" cy="29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876400" y="3906720"/>
            <a:ext cx="10461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Filter (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partic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677960"/>
            <a:ext cx="760320" cy="28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2820960"/>
            <a:ext cx="10461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HOBO (for 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7:09Z</dcterms:created>
  <dc:creator> </dc:creator>
  <dc:description/>
  <dc:language>en-US</dc:language>
  <cp:lastModifiedBy>Ivan Osorto</cp:lastModifiedBy>
  <dcterms:modified xsi:type="dcterms:W3CDTF">2007-12-12T21:17:33Z</dcterms:modified>
  <cp:revision>292</cp:revision>
  <dc:subject/>
  <dc:title>Slide 1</dc:title>
</cp:coreProperties>
</file>